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91C2-E2E8-4FF1-B370-5D8DBCC0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24A-5612-4538-BEBF-85C5164B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1F17-9371-4079-A9EA-C4355CDD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552-CAEC-433E-B699-913DCB57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C79-7D7D-4049-8547-48F46E47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8128-24F3-4D78-AA7F-BB256332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104-A769-44D7-B1DE-23E1A8AE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571-673F-4530-BCD3-B1048324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EBC-ED22-4228-A193-E6D869E1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D2D3-687D-44CF-9453-BD12B480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9B8F-AA7C-4E24-BE85-0BB23E62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E259-DA3E-4878-9E4A-047571EE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E432-7C02-4989-ACDB-7B06D73A0BA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29200" y="15127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197000"/>
            <a:ext cx="504720" cy="41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balho por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258920" y="1773360"/>
            <a:ext cx="5256000" cy="3965040"/>
            <a:chOff x="1258920" y="1773360"/>
            <a:chExt cx="5256000" cy="3965040"/>
          </a:xfrm>
        </p:grpSpPr>
        <p:sp>
          <p:nvSpPr>
            <p:cNvPr id="46" name=""/>
            <p:cNvSpPr/>
            <p:nvPr/>
          </p:nvSpPr>
          <p:spPr>
            <a:xfrm>
              <a:off x="1258920" y="1773360"/>
              <a:ext cx="360" cy="396504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58920" y="1773360"/>
              <a:ext cx="5256000" cy="360"/>
            </a:xfrm>
            <a:prstGeom prst="lin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4859280" y="692280"/>
            <a:ext cx="26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EIXO ABRANGÊ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rot="11149200">
            <a:off x="177840" y="-92160"/>
            <a:ext cx="5466960" cy="548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6" y="365"/>
                </a:moveTo>
                <a:arcTo wR="10800" hR="10800" stAng="-4503162" swAng="4338676"/>
                <a:lnTo>
                  <a:pt x="10800" y="10800"/>
                </a:lnTo>
                <a:close/>
              </a:path>
              <a:path fill="none" w="21600" h="21600">
                <a:moveTo>
                  <a:pt x="13586" y="365"/>
                </a:moveTo>
                <a:arcTo wR="10800" hR="10800" stAng="-4503162" swAng="4338676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3640" y="184464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EMÁ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124000" y="1268280"/>
            <a:ext cx="5256000" cy="3965400"/>
            <a:chOff x="2124000" y="1268280"/>
            <a:chExt cx="5256000" cy="3965400"/>
          </a:xfrm>
        </p:grpSpPr>
        <p:sp>
          <p:nvSpPr>
            <p:cNvPr id="52" name=""/>
            <p:cNvSpPr/>
            <p:nvPr/>
          </p:nvSpPr>
          <p:spPr>
            <a:xfrm>
              <a:off x="2124000" y="1268280"/>
              <a:ext cx="360" cy="3965400"/>
            </a:xfrm>
            <a:prstGeom prst="lin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24000" y="1268280"/>
              <a:ext cx="5256000" cy="360"/>
            </a:xfrm>
            <a:prstGeom prst="line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 flipH="1" rot="9922200">
            <a:off x="1477440" y="-365040"/>
            <a:ext cx="5466240" cy="548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6" y="365"/>
                </a:moveTo>
                <a:arcTo wR="10800" hR="10800" stAng="-4503162" swAng="4338676"/>
                <a:lnTo>
                  <a:pt x="10800" y="10800"/>
                </a:lnTo>
                <a:close/>
              </a:path>
              <a:path fill="none" w="21600" h="21600">
                <a:moveTo>
                  <a:pt x="13586" y="365"/>
                </a:moveTo>
                <a:arcTo wR="10800" hR="10800" stAng="-4503162" swAng="4338676"/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72840" y="3549600"/>
            <a:ext cx="177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f008"/>
                </a:solidFill>
                <a:latin typeface="Arial"/>
              </a:rPr>
              <a:t>Novos patam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f008"/>
                </a:solidFill>
                <a:latin typeface="Arial"/>
              </a:rPr>
              <a:t>de compreens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4005360"/>
            <a:ext cx="26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lações entre os eix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4360" y="1916280"/>
            <a:ext cx="3499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8T22:06:57Z</dcterms:created>
  <dc:creator>Personal User</dc:creator>
  <dc:description/>
  <dc:language>en-US</dc:language>
  <cp:lastModifiedBy>DI - Verônica</cp:lastModifiedBy>
  <dcterms:modified xsi:type="dcterms:W3CDTF">2009-07-10T13:48:25Z</dcterms:modified>
  <cp:revision>1</cp:revision>
  <dc:subject/>
  <dc:title>Slide 1</dc:title>
</cp:coreProperties>
</file>